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05CD3-A848-4F7C-AB1A-042ED9C47A63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kaidrės numerio vietos rezervavimo ženklas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36C5E-D3FB-40BF-9957-5FE330D62817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7A2-9035-497B-BB39-FB76662E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85D-DAE8-4583-BE7C-E91FCCC5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CD5-B1EB-40AB-A233-EE9C318F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363-7221-4BA7-BECF-8A768462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E005-7DC0-4621-ADB2-03BDA38D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5863-FCFB-401C-989F-2286543E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3951-8B9D-4DF5-A62A-3DFB178E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B361-8F92-4455-AB09-3EE0E3CC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0A82-F8AF-4399-9641-E474C7D2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8C33-DACA-4BCC-9DE8-6C0CE618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C95E-3812-4D8C-8370-5F941BBC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F2C-5D86-4AE2-9386-D6C2C784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465F-6638-4B35-BFF4-F5539B88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FD0B-5D35-492A-92AF-781CDAD7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0444-B754-470D-B557-93978D7B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2CA7-ED1E-43E2-97B8-13DE59D2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0DC3-B27A-42F3-A394-A658B2A6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AA290-929B-48D7-8514-599AC311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8130-D694-4D50-B07C-A8473B02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647E7-5273-4001-864E-40BA2514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52495-333D-4225-9AD8-DDB8BE78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8FCB0-B67B-4713-ADAB-AA3AD9E4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C52-865F-469C-B87A-C6753509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21162-535D-49BB-A452-9FCCB55A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25D91-6EFE-4223-8E8A-2799C4C6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4891F-8623-41B2-8FB0-752C6F03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9A289-5FDC-44C5-BBD8-96923FCC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892D0-A491-49D2-AFE3-2280E439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B13D4-AD63-4BCD-931D-EE86BC9D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2A08F-87AE-4B50-B1BC-EE6F1385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90E0C-A14E-48FE-B2FB-D6AC57C0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A301E-F056-493F-8EA3-B5EFF874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3CC66-AD42-44F9-84BF-A4BF7C71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C33-76BF-458D-A2D1-13B4B535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A237F-0ABF-4159-8FEF-4AA64D72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85517-7E0E-4DF9-998B-080E8313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97AAB-9089-4840-B29E-0070869D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3678D-7F93-4BC3-9012-60CFD9F1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E96B4-FB0B-4A4E-BD72-B4C3BE6D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6FD93-B4D0-4956-872F-2E0C42BB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0C6B5-0582-4D5D-88A3-8FBBD675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C5D27-1B08-49E9-B411-5EE4A52F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60363-1780-437A-AF31-E9C72BAE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E3FA1-E43E-4380-801D-DC5E00A2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D67B-414E-4BE0-8B8F-898380CC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00D55-4AE9-43B8-A034-6C7FF158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971B5-E594-478B-8A78-3B2F3A12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917C9-D29D-40E2-A9DC-1C703670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71FD1-6256-4640-A54D-A7905E38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45B15-ED5B-4B9A-B76C-3F48B628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D248D-7BAA-4561-95B2-F249AB91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362B5-C33D-4F21-8ECE-F0256F6B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90598-FE3F-4B6D-9395-7728E7BB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8E257-14EC-4880-96AF-3D415551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9C223-79DD-4636-9B1E-A5719314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FB56-EF05-4881-A1A0-3B17EF05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265EF-F032-4506-A06B-68D1FEE7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C2169-BE0C-43D9-9AA6-B63F80B7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3C938-C7DB-4D38-802B-C5CE88CC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82C9A-AE1E-423B-937B-9672AA5E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C1223-5EED-4B66-BD9B-DC9887B6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608CD-32C3-4C83-8B80-0B3C3C8A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72C61-7550-4056-A7B3-827A820A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58347-83DE-4B1A-8CB2-D453BE80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F8AC1-B103-4248-AF1B-369F10BF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7E340-2D3A-4A13-BB25-9D786286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B8F-F7B2-4CFA-A87B-086DBB88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AB219-59E4-4E57-992B-F4BB4C69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9B5D1-627B-4FC3-8DC6-1A7EC015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2C53C-BF74-4CB6-9C31-75DF1597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C0295-5CE5-4CD4-915A-80AE7B25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E8544-803A-4410-8233-36AE1F9A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DF687-9DBE-478A-B531-DE366AE9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21C66-081A-48B9-BD4A-C48D5729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413F0-3EEB-474B-8E8C-6B5140F5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4DD8A-319B-4855-9336-B6088E1F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4BABE-E6C4-4C8E-BA34-1B404564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049-7875-47C9-8758-F38BB70B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8C57E-5BAD-49E7-870A-046FD4B4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7786A-7865-477A-8801-E510A4FD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02B2F-9543-4E23-B045-148934F7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77D01-655A-421C-A8A9-BAAA4AFC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8A9DF-59BC-43DF-BB19-37FA5DF0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96E-FFCA-42E8-90E7-15DB2A1A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53FCD-333A-49E4-8AF8-60A2A5BF8A21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30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39AE0-AAC7-4B5A-98BF-D2117A406914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2DCCC-DA94-4B72-B08B-43861A136715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30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5076F-2ABD-4A6C-A92E-604C0E065AA2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6D83E-67CD-4E67-B8A9-9734DC869A07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30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8B487-84D3-45DD-82DE-8D37BFDAEE26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2CEE2-A101-499C-BBD3-3632E3B6C371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30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A7D70-4AEF-4955-981A-5404CFBD4E1F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1ED05-639C-42E4-B7FD-0FC9D53937A3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30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A4FB2-E604-450F-8478-78BF7CBC24BE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51CC9-B8C7-474A-9BE2-1060F6A628E4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30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73F1E-FDC7-4881-A31D-E789E0E9273E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C52DD-FD99-4124-9203-F3F59C977085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30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0E076-DC42-45C6-99C8-77FFA18F3232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Candara"/>
              </a:rPr>
              <a:t>Žurnalistika, reklama ir viešieji ryšia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Candara"/>
              </a:rPr>
              <a:t>Kaip atskirti žurnalisto, reklamos kūrėjo ir viešųjų ryšių specialisto pranešimus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95280" y="2565000"/>
            <a:ext cx="856944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7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900" spc="-1" strike="noStrike">
                <a:solidFill>
                  <a:srgbClr val="073e87"/>
                </a:solidFill>
                <a:latin typeface="Candara"/>
              </a:rPr>
              <a:t>Profesionaliai paruoštas viešųjų ryšių pranešimas kartais būna visiškai toks pat, kaip žurnalisto parengtas tekstas. </a:t>
            </a: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  <a:p>
            <a:pPr marL="231840" indent="-231840">
              <a:spcBef>
                <a:spcPts val="7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900" spc="-1" strike="noStrike">
                <a:solidFill>
                  <a:srgbClr val="073e87"/>
                </a:solidFill>
                <a:latin typeface="Candara"/>
              </a:rPr>
              <a:t>Gerai dirbantis viešųjų ryšių specialistas gali parengti straipsnį, atitinkantį visus žurnalistiniam tekstui keliamus reikalavimus – pateikti kelias nuomones, atskleisti tendenciją, patenkinti visuomenės interesus, tačiau drauge atspindėti ir atstovaujamos organizacijos vertybes. </a:t>
            </a: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Candara"/>
              </a:rPr>
              <a:t>Verta žinoti</a:t>
            </a:r>
            <a:r>
              <a:rPr b="1" lang="lt-LT" sz="44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Candara"/>
              </a:rPr>
              <a:t>Reklamos pranešima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Skaidrės numerio vietos rezervavimo ženklas 4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0E5E1-3E66-4200-852D-D6FBF84D7E1B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Content Placeholder 5" descr="show_foto.jpg"/>
          <p:cNvPicPr/>
          <p:nvPr/>
        </p:nvPicPr>
        <p:blipFill>
          <a:blip r:embed="rId1"/>
          <a:stretch/>
        </p:blipFill>
        <p:spPr>
          <a:xfrm>
            <a:off x="5087880" y="1600200"/>
            <a:ext cx="3159360" cy="21337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Untitled.jpg"/>
          <p:cNvPicPr/>
          <p:nvPr/>
        </p:nvPicPr>
        <p:blipFill>
          <a:blip r:embed="rId2"/>
          <a:stretch/>
        </p:blipFill>
        <p:spPr>
          <a:xfrm>
            <a:off x="5087880" y="3809880"/>
            <a:ext cx="3159360" cy="2533680"/>
          </a:xfrm>
          <a:prstGeom prst="rect">
            <a:avLst/>
          </a:prstGeom>
          <a:ln w="0">
            <a:noFill/>
          </a:ln>
        </p:spPr>
      </p:pic>
      <p:sp>
        <p:nvSpPr>
          <p:cNvPr id="373" name="TextBox 3"/>
          <p:cNvSpPr/>
          <p:nvPr/>
        </p:nvSpPr>
        <p:spPr>
          <a:xfrm>
            <a:off x="539640" y="518004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Šaltinis: www.kauno.diena.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Content Placeholder 6" descr="ac353ffd7e823a29cb1a463d806923d3_600.jpg"/>
          <p:cNvPicPr/>
          <p:nvPr/>
        </p:nvPicPr>
        <p:blipFill>
          <a:blip r:embed="rId3"/>
          <a:stretch/>
        </p:blipFill>
        <p:spPr>
          <a:xfrm>
            <a:off x="457200" y="2089080"/>
            <a:ext cx="337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ontent Placeholder 6" descr="Zurnal-pranes.jpg"/>
          <p:cNvPicPr/>
          <p:nvPr/>
        </p:nvPicPr>
        <p:blipFill>
          <a:blip r:embed="rId1"/>
          <a:stretch/>
        </p:blipFill>
        <p:spPr>
          <a:xfrm>
            <a:off x="1042920" y="2505240"/>
            <a:ext cx="6913800" cy="4109760"/>
          </a:xfrm>
          <a:prstGeom prst="rect">
            <a:avLst/>
          </a:prstGeom>
          <a:ln w="0">
            <a:noFill/>
          </a:ln>
        </p:spPr>
      </p:pic>
      <p:sp>
        <p:nvSpPr>
          <p:cNvPr id="376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9D91B-CD7B-42B8-9289-273BDD1FD751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Candara"/>
              </a:rPr>
              <a:t>Žurnalistinis pranešima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ontent Placeholder 3" descr="pr-pran.jpg"/>
          <p:cNvPicPr/>
          <p:nvPr/>
        </p:nvPicPr>
        <p:blipFill>
          <a:blip r:embed="rId1"/>
          <a:stretch/>
        </p:blipFill>
        <p:spPr>
          <a:xfrm>
            <a:off x="539640" y="2708280"/>
            <a:ext cx="8304480" cy="4037040"/>
          </a:xfrm>
          <a:prstGeom prst="rect">
            <a:avLst/>
          </a:prstGeom>
          <a:ln w="0">
            <a:noFill/>
          </a:ln>
        </p:spPr>
      </p:pic>
      <p:sp>
        <p:nvSpPr>
          <p:cNvPr id="379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77BD2-D920-49BF-9E2F-09E614CA0226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Candara"/>
              </a:rPr>
              <a:t>Viešųjų ryšių pranešima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200" y="2565000"/>
            <a:ext cx="78152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73e87"/>
                </a:solidFill>
                <a:latin typeface="Candara"/>
              </a:rPr>
              <a:t>Prižiūrėti</a:t>
            </a:r>
            <a:r>
              <a:rPr b="0" lang="lt-LT" sz="2800" spc="-1" strike="noStrike">
                <a:solidFill>
                  <a:srgbClr val="073e87"/>
                </a:solidFill>
                <a:latin typeface="Candara"/>
              </a:rPr>
              <a:t> socialinę bei politinę aplinką, pranešti apie pasikeitimus, kurie gali turėti teigiamos arba neigiamos įtakos piliečiams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73e87"/>
                </a:solidFill>
                <a:latin typeface="Candara"/>
              </a:rPr>
              <a:t>Nustatyti </a:t>
            </a:r>
            <a:r>
              <a:rPr b="0" lang="lt-LT" sz="2800" spc="-1" strike="noStrike">
                <a:solidFill>
                  <a:srgbClr val="073e87"/>
                </a:solidFill>
                <a:latin typeface="Candara"/>
              </a:rPr>
              <a:t>prasmingą visuomenės diskusijų eigą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73e87"/>
                </a:solidFill>
                <a:latin typeface="Candara"/>
              </a:rPr>
              <a:t>Suteikti</a:t>
            </a:r>
            <a:r>
              <a:rPr b="0" lang="lt-LT" sz="2800" spc="-1" strike="noStrike">
                <a:solidFill>
                  <a:srgbClr val="073e87"/>
                </a:solidFill>
                <a:latin typeface="Candara"/>
              </a:rPr>
              <a:t> tribūną piliečiams, politikams bei interesų grupėms išsakyti savo požiūrį ar apsiginti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73e87"/>
                </a:solidFill>
                <a:latin typeface="Candara"/>
              </a:rPr>
              <a:t>Skatinti </a:t>
            </a:r>
            <a:r>
              <a:rPr b="0" lang="lt-LT" sz="2800" spc="-1" strike="noStrike">
                <a:solidFill>
                  <a:srgbClr val="073e87"/>
                </a:solidFill>
                <a:latin typeface="Candara"/>
              </a:rPr>
              <a:t>įvairių nuomonių dialogą, palengvinti jį tarp valdžios pareigūnų ir visuomenės atstovų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EA02F-EA53-49D2-B0EF-AD6E6667D27F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Candara"/>
              </a:rPr>
              <a:t>Žurnalistikos tikslai ir pareigo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755640" y="2674440"/>
            <a:ext cx="81374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73e87"/>
                </a:solidFill>
                <a:latin typeface="Candara"/>
              </a:rPr>
              <a:t>Sudominti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 vartotojus preke, paslauga ar idėja (labdaros akcija, politine partija ar pan.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73e87"/>
                </a:solidFill>
                <a:latin typeface="Candara"/>
              </a:rPr>
              <a:t>Populiarinti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 prekes, paslaugas ar idėjas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73e87"/>
                </a:solidFill>
                <a:latin typeface="Candara"/>
              </a:rPr>
              <a:t>Paskatinti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 pirkti, balsuoti (už) ir t. t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212FD-E97A-4597-883B-3CE7C4C2DF5A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Candara"/>
              </a:rPr>
              <a:t>Reklamos tiksla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611280" y="2674440"/>
            <a:ext cx="83534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73e87"/>
                </a:solidFill>
                <a:latin typeface="Candara"/>
              </a:rPr>
              <a:t>Informuoti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 visuomenę apie prekes, įvykius, tendencijas ir kt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73e87"/>
                </a:solidFill>
                <a:latin typeface="Candara"/>
              </a:rPr>
              <a:t>Kurti 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gerą organizacijos ar asmens įvaizdį visuomenės akyse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73e87"/>
                </a:solidFill>
                <a:latin typeface="Candara"/>
              </a:rPr>
              <a:t>Skatinti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 visuomenę palaikyti organizaciją, idėją, prekės ženklą ar asmenį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0720C-B051-4CE4-B040-1CABE5EC154F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Candara"/>
              </a:rPr>
              <a:t>Viešųjų ryšių tiksla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Žurnalistai turi nuolatos pateikti naujienas, tačiau kasdien sugalvoti po kelias temas sudėtinga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Temas ar tekstus siūlo viešųjų ryšių specialistai, kurie dirba tarsi tarpininkai tarp žurnalistų ir organizacijų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91440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ffff"/>
                </a:solidFill>
                <a:latin typeface="Candara"/>
              </a:rPr>
              <a:t>Kas bendra tarp v</a:t>
            </a:r>
            <a:r>
              <a:rPr b="1" lang="cs-CZ" sz="4000" spc="-1" strike="noStrike">
                <a:solidFill>
                  <a:srgbClr val="ffffff"/>
                </a:solidFill>
                <a:latin typeface="Candara"/>
              </a:rPr>
              <a:t>iešųjų ryšių ir žurnalistikos</a:t>
            </a:r>
            <a:r>
              <a:rPr b="1" lang="lt-LT" sz="4000" spc="-1" strike="noStrike">
                <a:solidFill>
                  <a:srgbClr val="ffffff"/>
                </a:solidFill>
                <a:latin typeface="Candar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611280" y="256536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Reklama yra kova už vartotojų pinigus, o viešieji ryšiai yra kova už visuomenės protą“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Reklamuojama parduodama prekė, o viešaisiais ryšiais siekiama visuomenės palankumo ir paramos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Reklamuojama fragmentiškai, o viešaisiais ryšiais formuojamas ilgalaikis įvaizdis visuomenėje, kuriamas pasitikėjimas ir užsitikrinama jos parama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DF6E4-464F-4AD8-8E8E-8C931D04EECA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ffff"/>
                </a:solidFill>
                <a:latin typeface="Candara"/>
              </a:rPr>
              <a:t>Kuo skiriasi reklama ir viešieji ryšiai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63400" y="2346120"/>
            <a:ext cx="828072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73e87"/>
                </a:solidFill>
                <a:latin typeface="Candara"/>
              </a:rPr>
              <a:t>Žurnalistika – gana fragmentiška veikla, nes žurnalistas rengia tas temas, kurios jam atrodo įdomios, kokią informaciją gauna ir pan. Viešųjų ryšių specialistas laikosi komunikacijos tęstinumo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73e87"/>
                </a:solidFill>
                <a:latin typeface="Candara"/>
              </a:rPr>
              <a:t>Žurnalistas naudoja vieną kanalą informacijai pateikti – masinės komunikacijos priemones.  Viešųjų ryšių specialistas naudoja jų daugiau – socialinius tinklus, renginius ir pan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Skaidrės numerio vietos rezervavimo ženklas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723B5-D820-43CF-BE0E-C4B6138CFE56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91440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ffff"/>
                </a:solidFill>
                <a:latin typeface="Candara"/>
              </a:rPr>
              <a:t>Kuo skiriasi žurnalistika ir viešieji ryšiai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84000" y="2565000"/>
            <a:ext cx="813564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73e87"/>
                </a:solidFill>
                <a:latin typeface="Candara"/>
              </a:rPr>
              <a:t>Reklama: </a:t>
            </a:r>
            <a:r>
              <a:rPr b="0" lang="cs-CZ" sz="3000" spc="-1" strike="noStrike">
                <a:solidFill>
                  <a:srgbClr val="073e87"/>
                </a:solidFill>
                <a:latin typeface="Candara"/>
              </a:rPr>
              <a:t>„Tai pats geriausias sviestas!“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73e87"/>
                </a:solidFill>
                <a:latin typeface="Candara"/>
              </a:rPr>
              <a:t>Viešieji ryšiai: </a:t>
            </a:r>
            <a:r>
              <a:rPr b="0" lang="cs-CZ" sz="3000" spc="-1" strike="noStrike">
                <a:solidFill>
                  <a:srgbClr val="073e87"/>
                </a:solidFill>
                <a:latin typeface="Candara"/>
              </a:rPr>
              <a:t>„Tai geras sviestas, nes pagamintas pagal senąsias lietuviškos kulinarijos tradicijas ir gaminamas iš natūralaus lietuviškos karvutės pieno“</a:t>
            </a:r>
            <a:r>
              <a:rPr b="0" lang="lt-LT" sz="3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73e87"/>
                </a:solidFill>
                <a:latin typeface="Candara"/>
              </a:rPr>
              <a:t>Žurnalistika: </a:t>
            </a:r>
            <a:r>
              <a:rPr b="0" lang="cs-CZ" sz="3000" spc="-1" strike="noStrike">
                <a:solidFill>
                  <a:srgbClr val="073e87"/>
                </a:solidFill>
                <a:latin typeface="Candara"/>
              </a:rPr>
              <a:t>„Visuomenės nuomonės apklausos rodo, kad tai geras sviestas, tačiau specialistų vertinimai </a:t>
            </a:r>
            <a:r>
              <a:rPr b="0" lang="lt-LT" sz="3000" spc="-1" strike="noStrike">
                <a:solidFill>
                  <a:srgbClr val="073e87"/>
                </a:solidFill>
                <a:latin typeface="Candara"/>
              </a:rPr>
              <a:t>prieštaringi</a:t>
            </a:r>
            <a:r>
              <a:rPr b="0" lang="cs-CZ" sz="3000" spc="-1" strike="noStrike">
                <a:solidFill>
                  <a:srgbClr val="073e87"/>
                </a:solidFill>
                <a:latin typeface="Candara"/>
              </a:rPr>
              <a:t>“</a:t>
            </a:r>
            <a:r>
              <a:rPr b="0" lang="lt-LT" sz="3000" spc="-1" strike="noStrike">
                <a:solidFill>
                  <a:srgbClr val="073e87"/>
                </a:solidFill>
                <a:latin typeface="Candara"/>
              </a:rPr>
              <a:t>.  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FCA2C-C26A-428B-80DE-A1E720BB60B6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ffff"/>
                </a:solidFill>
                <a:latin typeface="Candara"/>
              </a:rPr>
              <a:t>Kaip skiriasi pranešimų stilius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267840" y="2420640"/>
            <a:ext cx="8713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Dažnai informacija pateikiama iš vieno šaltinio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Minimas vienas prekės ženklas ar organizacija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Pateikiama vienos organizacijos naujiena, o ne skirtingi vertinimai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Kartais būna pažymėta ženklais </a:t>
            </a:r>
            <a:r>
              <a:rPr b="0" lang="cs-CZ" sz="3200" spc="-1" strike="noStrike">
                <a:solidFill>
                  <a:srgbClr val="073e87"/>
                </a:solidFill>
                <a:latin typeface="Candara"/>
              </a:rPr>
              <a:t>„PR“, „R“, „Užs.“, „Parengta bendradarbiaujant su...“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53FB8-3B13-4F74-8BDE-DBD72AA0EBA6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91440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ffff"/>
                </a:solidFill>
                <a:latin typeface="Candara"/>
              </a:rPr>
              <a:t>Kaip atpažinti viešųjų ryšių pranešimą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5T07:00:09Z</dcterms:created>
  <dc:creator>Egidijus Jurgelionis</dc:creator>
  <dc:description/>
  <dc:language>en-US</dc:language>
  <cp:lastModifiedBy>Gražina Jurgutavičiūtė</cp:lastModifiedBy>
  <dcterms:modified xsi:type="dcterms:W3CDTF">2015-12-28T15:08:16Z</dcterms:modified>
  <cp:revision>72</cp:revision>
  <dc:subject/>
  <dc:title>Žurnalistika, reklama ir viešieji ryšiai</dc:title>
</cp:coreProperties>
</file>