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D7B42-BAF6-4F16-9A86-B3958B1FC656}"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371600" y="1143000"/>
            <a:ext cx="4114800" cy="3086280"/>
          </a:xfrm>
          <a:prstGeom prst="rect">
            <a:avLst/>
          </a:prstGeom>
          <a:ln w="0">
            <a:noFill/>
          </a:ln>
        </p:spPr>
      </p:sp>
      <p:sp>
        <p:nvSpPr>
          <p:cNvPr id="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Calibri"/>
            </a:endParaRPr>
          </a:p>
        </p:txBody>
      </p:sp>
      <p:sp>
        <p:nvSpPr>
          <p:cNvPr id="78"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78948-59CE-41E2-AEF6-279EC40317EF}"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36206-BC56-479C-A5B1-0188342B1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05C21-7640-4103-BB9A-9FC1FB3AA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7F45F-46D3-48FB-8B02-0C933F8BE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1EE7F-4A66-41C7-9A12-C40E26587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F1D8E-B2FA-41C8-AE0D-0F4F0E0F9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6CB4B-0C64-41B2-AFC8-6BF61EEDD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9DE71-A503-46FB-8E90-31994F2AE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F7267-D317-4D61-A4B7-40C72083F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21ED1-55FF-4690-8C1D-50323592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73C11-98DD-4C4D-8A16-B545B840E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85CA-17B3-46AC-B0A3-3D5C3A567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A3A58-6D49-4513-9787-B982476D3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C12B3-89AF-40ED-9C25-C4EA49AAF5F5}" type="datetime">
              <a:rPr b="0" lang="lt-LT" sz="1200" spc="-1" strike="noStrike">
                <a:solidFill>
                  <a:srgbClr val="898989"/>
                </a:solidFill>
                <a:latin typeface="Calibri"/>
              </a:rPr>
              <a:t>2026 metų liepos mėnesio 30 diena</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2B78D-9A25-41AB-BA70-39C36D447A87}"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Pasakojimas ir gali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898989"/>
                </a:solidFill>
                <a:latin typeface="Calibri"/>
              </a:rPr>
              <a:t>Kokią įtaką pasakojimas gali daryti visuomene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ūrybiškumo užduoti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alvokite, koks istorinis Jūsų šeimos pasakojimas, Jums pats svarbiausias? Ką jis Jums sako / duo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Užrašykite šį pasakojimą.</a:t>
            </a:r>
            <a:endParaRPr b="0" lang="en-US" sz="3200" spc="-1" strike="noStrike">
              <a:solidFill>
                <a:srgbClr val="000000"/>
              </a:solidFill>
              <a:latin typeface="Calibri"/>
            </a:endParaRPr>
          </a:p>
        </p:txBody>
      </p:sp>
      <p:sp>
        <p:nvSpPr>
          <p:cNvPr id="75"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E74B48-1D72-4612-8C92-674D61A3CF63}"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oks gali būti pasakojima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urnalistinis pasakoji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Meninis pasakojimas (filmas, romanas ir t. 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Istorinis pasakojimas ir t. 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23573-AA01-4A04-AC44-BDF4E2AAE195}"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Žurnalistinio pasakojimo galia</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Atskleidžia visuomenės negero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Įspėja apie visuomenės negero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aria opiais visuomenei klausimais</a:t>
            </a:r>
            <a:endParaRPr b="0" lang="en-US" sz="3200" spc="-1" strike="noStrike">
              <a:solidFill>
                <a:srgbClr val="000000"/>
              </a:solidFill>
              <a:latin typeface="Calibri"/>
            </a:endParaRPr>
          </a:p>
        </p:txBody>
      </p:sp>
      <p:sp>
        <p:nvSpPr>
          <p:cNvPr id="55"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CC57D-0159-4F75-BDC4-4D66D2FA9CC2}"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Žurnalistinis pasakojimas vienija</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r>
              <a:rPr b="0" lang="lt-LT" sz="3200" spc="-1" strike="noStrike">
                <a:solidFill>
                  <a:srgbClr val="000000"/>
                </a:solidFill>
                <a:latin typeface="Calibri"/>
              </a:rPr>
              <a:t>Žiniasklaida ne tik formuoja visuomenės nuomonę ir darbotvarkę, bet ir jungia individus į bendruome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al kalb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al laik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al idėjas</a:t>
            </a:r>
            <a:endParaRPr b="0" lang="en-US" sz="3200" spc="-1" strike="noStrike">
              <a:solidFill>
                <a:srgbClr val="000000"/>
              </a:solidFill>
              <a:latin typeface="Calibri"/>
            </a:endParaRPr>
          </a:p>
        </p:txBody>
      </p:sp>
      <p:sp>
        <p:nvSpPr>
          <p:cNvPr id="58"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517D5-7AE3-4E46-BE68-4A6E532A3FC9}"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Meninio pasakojimo galia</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Teikia estetinį pasitenkinim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deda visuomenės nariui suprasti, kokiomis vertybėmis vadovaujasi visuomenė</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Atlieka idėjų skleidimo funkciją</a:t>
            </a:r>
            <a:endParaRPr b="0" lang="en-US" sz="3200" spc="-1" strike="noStrike">
              <a:solidFill>
                <a:srgbClr val="000000"/>
              </a:solidFill>
              <a:latin typeface="Calibri"/>
            </a:endParaRPr>
          </a:p>
        </p:txBody>
      </p:sp>
      <p:sp>
        <p:nvSpPr>
          <p:cNvPr id="61"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1F198D-4E17-4A6C-ABE3-4AF6BF7C0949}"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Istorinio pasakojimo galia</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eikia svarbius istorinius fak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Jungia individus, kurie laiko save tautos dalim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rojektuoja visuomenės raidos kryptį</a:t>
            </a:r>
            <a:endParaRPr b="0" lang="en-US" sz="3200" spc="-1" strike="noStrike">
              <a:solidFill>
                <a:srgbClr val="000000"/>
              </a:solidFill>
              <a:latin typeface="Calibri"/>
            </a:endParaRPr>
          </a:p>
        </p:txBody>
      </p:sp>
      <p:sp>
        <p:nvSpPr>
          <p:cNvPr id="64"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45434-F51D-4529-8784-FEEAF20EC691}"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533160"/>
            <a:ext cx="8229600" cy="55926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r>
              <a:rPr b="0" lang="lt-LT" sz="3200" spc="-1" strike="noStrike">
                <a:solidFill>
                  <a:srgbClr val="000000"/>
                </a:solidFill>
                <a:latin typeface="Calibri"/>
              </a:rPr>
              <a:t>Nors pasakojimų funkcijos, struktūra ir kiti elementai skiriasi, visi anksčiau minėti pasakojimai turi galią keisti individus, jų požiūrį bei visuomenės sąrangą.   </a:t>
            </a:r>
            <a:endParaRPr b="0" lang="en-US" sz="3200" spc="-1" strike="noStrike">
              <a:solidFill>
                <a:srgbClr val="000000"/>
              </a:solidFill>
              <a:latin typeface="Calibri"/>
            </a:endParaRPr>
          </a:p>
        </p:txBody>
      </p:sp>
      <p:sp>
        <p:nvSpPr>
          <p:cNvPr id="66"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4FD0B-A5F5-4C92-83A8-01CBA445F087}"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Tyrinėjimo užduotis</a:t>
            </a:r>
            <a:endParaRPr b="0" lang="en-US" sz="4400" spc="-1" strike="noStrike">
              <a:solidFill>
                <a:srgbClr val="000000"/>
              </a:solidFill>
              <a:latin typeface="Calibri"/>
            </a:endParaRPr>
          </a:p>
        </p:txBody>
      </p:sp>
      <p:sp>
        <p:nvSpPr>
          <p:cNvPr id="68" name=""/>
          <p:cNvSpPr txBox="1"/>
          <p:nvPr/>
        </p:nvSpPr>
        <p:spPr>
          <a:xfrm>
            <a:off x="457200" y="1428840"/>
            <a:ext cx="8229600" cy="4525920"/>
          </a:xfrm>
          <a:prstGeom prst="rect">
            <a:avLst/>
          </a:prstGeom>
          <a:noFill/>
          <a:ln w="0">
            <a:noFill/>
          </a:ln>
        </p:spPr>
        <p:txBody>
          <a:bodyPr anchor="t">
            <a:normAutofit fontScale="97000"/>
          </a:bodyPr>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r>
              <a:rPr b="0" lang="lt-LT" sz="3200" spc="-1" strike="noStrike">
                <a:solidFill>
                  <a:srgbClr val="000000"/>
                </a:solidFill>
                <a:latin typeface="Calibri"/>
              </a:rPr>
              <a:t>Kokios naudos mums gali duoti šie pasakojimai:</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Vinco Mykolaičio-Putino romanas </a:t>
            </a:r>
            <a:r>
              <a:rPr b="0" i="1" lang="lt-LT" sz="3200" spc="-1" strike="noStrike">
                <a:solidFill>
                  <a:srgbClr val="000000"/>
                </a:solidFill>
                <a:latin typeface="Calibri"/>
              </a:rPr>
              <a:t>Altorių šešėly.</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Reportažas apie žiemines padangas laidoje </a:t>
            </a:r>
            <a:r>
              <a:rPr b="0" i="1" lang="lt-LT" sz="3200" spc="-1" strike="noStrike">
                <a:solidFill>
                  <a:srgbClr val="000000"/>
                </a:solidFill>
                <a:latin typeface="Calibri"/>
              </a:rPr>
              <a:t>Keliai. Mašinos. Žmonė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Istoriniai pasakojimai: </a:t>
            </a:r>
            <a:r>
              <a:rPr b="0" i="1" lang="lt-LT" sz="3200" spc="-1" strike="noStrike">
                <a:solidFill>
                  <a:srgbClr val="000000"/>
                </a:solidFill>
                <a:latin typeface="Calibri"/>
              </a:rPr>
              <a:t>Dialogas apie Lietuvos istorijos stereotipus. Vilnius. / Dialogas apie Lietuvos istorijos stereotipus. Žalgirio mūšis</a:t>
            </a:r>
            <a:r>
              <a:rPr b="0" lang="lt-LT" sz="3200" spc="-1" strike="noStrike">
                <a:solidFill>
                  <a:srgbClr val="000000"/>
                </a:solidFill>
                <a:latin typeface="Calibri"/>
              </a:rPr>
              <a:t>. </a:t>
            </a:r>
            <a:endParaRPr b="0" lang="en-US" sz="3200" spc="-1" strike="noStrike">
              <a:solidFill>
                <a:srgbClr val="000000"/>
              </a:solidFill>
              <a:latin typeface="Calibri"/>
            </a:endParaRPr>
          </a:p>
        </p:txBody>
      </p:sp>
      <p:sp>
        <p:nvSpPr>
          <p:cNvPr id="69"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6BA9E-99FF-46AC-AE61-BB6DA944A0C9}"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ritinio mąstymo užduoti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r>
              <a:rPr b="0" lang="lt-LT" sz="3200" spc="-1" strike="noStrike">
                <a:solidFill>
                  <a:srgbClr val="000000"/>
                </a:solidFill>
                <a:latin typeface="Calibri"/>
              </a:rPr>
              <a:t>Lietuvių tauta turi daugybę istorinių pasakojimų (pavyzdžiui, Žalgirio mūšis, S. Dariaus ir S. Girėno skrydis per Atlantą ir t. t.). Pasvarstykite, kokie istoriniai pasakojimai ir kodėl jie daro didžiausią įtaką šiuolaikinei Lietuvos visuomenei?</a:t>
            </a:r>
            <a:endParaRPr b="0" lang="en-US" sz="3200" spc="-1" strike="noStrike">
              <a:solidFill>
                <a:srgbClr val="000000"/>
              </a:solidFill>
              <a:latin typeface="Calibri"/>
            </a:endParaRPr>
          </a:p>
        </p:txBody>
      </p:sp>
      <p:sp>
        <p:nvSpPr>
          <p:cNvPr id="72"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9D21A-0603-47CA-91E6-4A38DDC2E1FF}"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6T05:56:24Z</dcterms:created>
  <dc:creator>Egidijus Jurgelionis</dc:creator>
  <dc:description/>
  <dc:language>en-US</dc:language>
  <cp:lastModifiedBy>R</cp:lastModifiedBy>
  <dcterms:modified xsi:type="dcterms:W3CDTF">2016-01-06T19:27:36Z</dcterms:modified>
  <cp:revision>17</cp:revision>
  <dc:subject/>
  <dc:title>Pasakojimas ir galia</dc:title>
</cp:coreProperties>
</file>