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2A0441-D22E-43E6-88D3-58E9F81AE402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kaidrės numerio vietos rezervavimo ženklas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C6F98-C691-49F1-B996-08F8B1BB486B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23ED-DAD5-49D3-9DC9-71E004AB5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BC95-6210-4AD7-8FD9-CCDFF700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FF25-5F14-4244-B1FC-19842648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B5A0-70C5-4669-92DC-875985D1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AF99-886B-42C6-B7A5-0DEEA694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C231-B6A2-4316-B7A6-5510E8F5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0447-1A1B-4680-B122-E7947E91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7097-F7E3-4B24-8E23-B138BDB7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B3A2-37FC-4609-B080-F066E46C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D963-347B-4A1F-9129-476ADF42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AB1B-8FC1-4E69-AA51-52E346E4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A98E-B240-4CF8-A166-BB316701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A9C5-CB87-4F4B-804C-1D1B2EC2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9E4A-01E2-41F4-8EA5-40AC1278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6D3B-A8FC-46F2-8C0B-85B024BD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E278-4EDF-43EA-9C82-85513A89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5F92-5242-4C72-B8B3-CBCE7E40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3A13C-9CDE-4636-A46D-5FB698E0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16989-620F-4ABF-B5F0-527CAB13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CA40B-14E7-46D2-87E2-7D1EEE73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CC67E-C84A-4DDC-9EF0-578AA1D8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AB92B-5E18-47B2-810A-E5D253D8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EF9E-3611-4600-92A7-F320D440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04195-CEE8-456D-A183-EB556C7E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B19B6-12E4-4E02-84BE-5E39598C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832AC-1A2D-48A2-AD15-5FE8EF8B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CAA3D-8745-48EB-AB19-6736E1B1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5ED87-0422-4D9C-8413-FA367801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C1003-033C-4464-8D57-AFCC628C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58DB7-D1E5-417D-B380-E526447C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B0506-50C9-4CB6-A01E-C5BB7562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9908D-BB85-49D5-AB80-CE7FD0A1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17CC8-F9D7-4BF4-A914-EF27BCF1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FC32-0CA3-41F2-BB4D-30E77CDC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3F446-2791-4E6B-8377-D9D7209E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FE1D6-76D0-4AC5-90C7-25B5A126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79422-83EC-42E7-8FEF-BAB33453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614A6-0AE9-4903-9293-59E1FAE6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B7A9C-3674-416D-9574-35C3B5B3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82769-FC9F-4152-8951-5F4719C8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B815F-96AD-4993-B63E-C63F989C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0FA9F-49A9-4C5B-832D-66102BF5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23CCE-09B3-402E-B5EE-AE597E4A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FD693-267D-4AB5-B056-7183D52E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0845-F571-415B-AD32-BC101D04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1F789-C1A7-440B-A1CB-EFD055D3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BA2EB-33CE-4501-A1E9-9DAE0D12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DDC2B-6E1B-44DC-A003-564D8420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9D51E-9CE5-4D9D-A63D-F458D190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F3C7D-A385-4C45-AFEB-7BD8580A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B31DF-F2E7-400A-A23D-F2569449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5606F-798A-4D58-BD6D-65CE0C4D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E8ABB-9BB0-4E18-AF78-5AA04E9B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B8318-E35B-4B1F-BF36-01C1D55D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372A0-6FA8-4978-8BE0-D7220517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81DB-DE31-4A56-ACD0-296820CB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0DB28-ED8C-4142-AFDE-8215F421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242F-1721-478D-839D-3704035C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E083-1578-4504-B05A-FC273ECD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B1FA-51AB-4365-92E5-F6FBCEBE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ačiakampis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Stačiakampis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6F2227-AAF4-4C58-879E-4C9A2B614048}" type="datetime">
              <a:rPr b="0" lang="lt-LT" sz="1000" spc="-1" strike="noStrike">
                <a:solidFill>
                  <a:srgbClr val="b13f9a"/>
                </a:solidFill>
                <a:latin typeface="Times New Roman"/>
              </a:rPr>
              <a:t>2026 metų liepos mėnesio 30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F4175A-639B-40D2-8F89-E5CDF681308D}" type="slidenum">
              <a:rPr b="0" lang="lt-LT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Stačiakampis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Stačiakampis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iesioji jungtis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560A32-0CED-49D5-AB67-28ED959BE9C7}" type="datetime">
              <a:rPr b="0" lang="lt-LT" sz="1000" spc="-1" strike="noStrike">
                <a:solidFill>
                  <a:srgbClr val="ffffff"/>
                </a:solidFill>
                <a:latin typeface="Times New Roman"/>
              </a:rPr>
              <a:t>2026 metų liepos mėnesio 30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5FC4D7-6E64-463A-B34C-8AECAE283821}" type="slidenum">
              <a:rPr b="0" lang="lt-LT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Stačiakampis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Stačiakampis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E725CF-04BD-46BC-8F0C-FA302A32ABF8}" type="datetime">
              <a:rPr b="0" lang="lt-LT" sz="1000" spc="-1" strike="noStrike">
                <a:solidFill>
                  <a:srgbClr val="b13f9a"/>
                </a:solidFill>
                <a:latin typeface="Times New Roman"/>
              </a:rPr>
              <a:t>2026 metų liepos mėnesio 30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28550-4B73-4B4B-9687-659A6C780949}" type="slidenum">
              <a:rPr b="0" lang="lt-LT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ačiakampis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ačiakampis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64EFDE-F744-49F3-BFDE-00DA0800993E}" type="datetime">
              <a:rPr b="0" lang="lt-LT" sz="1000" spc="-1" strike="noStrike">
                <a:solidFill>
                  <a:srgbClr val="f4e7ed"/>
                </a:solidFill>
                <a:latin typeface="Times New Roman"/>
              </a:rPr>
              <a:t>2026 metų liepos mėnesio 30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F54369-1854-4E49-934D-3BEC8C60281E}" type="slidenum">
              <a:rPr b="0" lang="lt-LT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Stačiakampis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Stačiakampis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CBA2A3-A854-4A3A-AB18-E263D8DF2ABA}" type="datetime">
              <a:rPr b="0" lang="lt-LT" sz="1000" spc="-1" strike="noStrike">
                <a:solidFill>
                  <a:srgbClr val="b13f9a"/>
                </a:solidFill>
                <a:latin typeface="Times New Roman"/>
              </a:rPr>
              <a:t>2026 metų liepos mėnesio 30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C52CCC-EFDA-423D-8612-D6DBECCEB8C3}" type="slidenum">
              <a:rPr b="0" lang="lt-LT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108400" cy="28656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715920"/>
            <a:ext cx="5114880" cy="110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rebuchet MS"/>
              </a:rPr>
              <a:t>Ar socialinėse medijose pateikiama teisinga informacija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457200" y="1773000"/>
            <a:ext cx="3827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Tie, kas rašo komentarus, yra nepažįstami. Daugelis komentatorių – anonimai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Komentatoriai būna šališki, kartais gauna pinigų už komentavimą užsakovo naudai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Skaidrės numerio vietos rezervavimo ženklas 2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32245-91B4-49D0-BA54-2B3EA4AC0BA7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Turinio vietos rezervavimo ženklas 4" descr=""/>
          <p:cNvPicPr/>
          <p:nvPr/>
        </p:nvPicPr>
        <p:blipFill>
          <a:blip r:embed="rId2"/>
          <a:stretch/>
        </p:blipFill>
        <p:spPr>
          <a:xfrm>
            <a:off x="4357800" y="1773360"/>
            <a:ext cx="31399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844280"/>
            <a:ext cx="72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mocinga kalba labiau nei faktai įtikinamai formuoja visuomenės nuomonę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mobilizuoja visuomenės grupes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gali padidinti ar sumažinti pasitikėjimą valstybe, asmenimis, organizacijomis, prekių ženklais ir t.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t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Skaidrės numerio vietos rezervavimo ženklas 2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ED9A19-808E-4A58-AA35-FB1571BCEEC3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7200" y="609480"/>
            <a:ext cx="7354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Trebuchet MS"/>
              </a:rPr>
              <a:t>Atkreipkite dėmesį į tai, kad dalis skaitytojų net nepaskaitę naujienos iš karto pradeda skaityti komentarus ir susidaro nuomonę apie problemą ne iš pačios naujienos, bet iš jos vertinimo</a:t>
            </a:r>
            <a:r>
              <a:rPr b="1" lang="lt-LT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Skaidrės numerio vietos rezervavimo ženklas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7D4689-7E4C-4DA8-A366-DD7C13A56875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542880" y="-249120"/>
            <a:ext cx="7236000" cy="11397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324000" y="1255320"/>
            <a:ext cx="7920000" cy="55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rebuchet MS"/>
              </a:rPr>
              <a:t>Internetinis turinys</a:t>
            </a: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, kurį žmonės sukūrė naudodamiesi lengvai prieinamomis technologijomis, leidžiančiomis paprastai sukurti ir paskleisti informaciją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Tinklaraščiai (pvz.</a:t>
            </a: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 Nezinau.lt</a:t>
            </a: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Socialinių tinklų svetainės (pvz.</a:t>
            </a: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 Facebook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Mikrotinklaraščiai (pvz.</a:t>
            </a: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 Twitter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Vaizdo dalinimosi portalai (pvz.</a:t>
            </a: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 Youtub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Nuotraukų dali</a:t>
            </a: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j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imosi portalai (pvz.</a:t>
            </a: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 Instagram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Wiki puslapiai (pvz.</a:t>
            </a: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 Wikipedia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Klausimų ir atsakymų puslapiai (pvz.</a:t>
            </a: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 Yahoo Answer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Virtualūs pasauliai (pvz.</a:t>
            </a: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 Second Lif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Kitos interaktyvios virtualaus bendravimo priemonė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Skaidrės numerio vietos rezervavimo ženklas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A37140-68DA-44B9-BB3C-D647448724CC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324000" y="19378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Jų skirtumai yra ši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įsitraukimo laipsnis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prieinamumo lygis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vaidmenų kintamumas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naujumas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turinio kintamumas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tarpusavio sąsajos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bendruomeniškumas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pasiekiamuma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Skaidrės numerio vietos rezervavimo ženklas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34A062-04D9-4B35-9E53-24FCDB61AA7A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395280" y="1924200"/>
            <a:ext cx="7238880" cy="48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Žinomi asmenys savo įrašuose pateikia įdomių minčių publikacijom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Oficialūs, patikimi šaltiniai ypatingų situacijų atveju dažnai  informaciją socialiniuose tinkluose pateikia greičiau nei žurnalistams, o šie ją kartoj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Bet kurio vartotojo įdomi naujiena, pastebėta žurnalisto, gali tapti žiniasklaidos objektu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Skaidrės numerio vietos rezervavimo ženklas 2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416427-993C-458B-901A-43F6406FA199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483920"/>
            <a:ext cx="75708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rebuchet MS"/>
              </a:rPr>
              <a:t>Taigi Jūsų paskelbta naujiena vieną dieną gali tapti didelio interneto portalo teksto turiniu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i="1" lang="lt-LT" sz="2800" spc="-1" strike="noStrike">
                <a:solidFill>
                  <a:srgbClr val="000000"/>
                </a:solidFill>
                <a:latin typeface="Trebuchet MS"/>
              </a:rPr>
              <a:t>Tačiau ar tikrai norite, kad eilinį Jūsų įrašą „Facebooke“ matytų visa Lietuva?..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Skaidrės numerio vietos rezervavimo ženklas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1C26C8-6F58-4BE9-B68D-D88630525396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7204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Įstatymai, numatantys, kokia informacija neskelbtina žinias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k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laidos priemonėse, taikomi ir socialinėms medijoms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Socialinėse medijose skelbiama informacija taip pat aktyviai tikrinama visuomenės, pedagogų, darbdavių, vadybininkų.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Jeigu  informacija net nepažeidžia įstatymų, verta pagalvoti, ar tikrai norima, kad žmonės apie tai žinotų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Skaidrės numerio vietos rezervavimo ženklas 2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80C5E-CF8A-4E8E-9875-46BC5D93B345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480960" y="133200"/>
            <a:ext cx="8004240" cy="1629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915920"/>
            <a:ext cx="7238880" cy="45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Informacija yra teisinga tada, kai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ją pateikia oficialūs šaltiniai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ją pateikia vieši asmenys, kurių reputacija lemia jų karjerą, statusą visuomenėje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smeniškai informuoja draugai, kuriais pasitikim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Skaidrės numerio vietos rezervavimo ženklas 2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FA6B0D-57ED-4E85-8170-C7A2C8CCE643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itle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785000" cy="11397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934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Informacijos teisingumu reikėtų suabejoti tada, kai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ją skelbiantys žmonės nepateikia tikrojo savo vardo ir pavardės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ją skelbiantys žmonės nepateikia savo 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nuotraukos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pateikia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mos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nuorod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os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į neaiškaus pobūdžio puslapius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kiti abejoja dėl 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asmens -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informacijos šaltinio patikimumo socialiniuose tinkluose ir net viešojoje erdvėj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Skaidrės numerio vietos rezervavimo ženklas 2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B05136-895B-4CC1-B123-48F1B3681CDF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840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„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Mikės melagėlio“ efektas: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daugybę kartų pamelavus žmonės daugiau nebetikės, o tai gali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 turėti skaudžių pasekmių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Socialinėse medijose visi greitai sužino, kas yra melagis: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žmonės gali keistis nuomonėmis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 ir komentarais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Darbdaviai tikrina socialines medijas, todėl darbuotojų paviešintas įstatymų ir etikos normų neatitinkantis turinys gali užkirsti kelią jų karjerai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Skaidrės numerio vietos rezervavimo ženklas 2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17AE74-AC4F-4C7C-BA04-E67DBF429590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9T11:01:45Z</dcterms:created>
  <dc:creator>Egidijus Jurgelionis</dc:creator>
  <dc:description/>
  <dc:language>en-US</dc:language>
  <cp:lastModifiedBy>Gražina Jurgutavičiūtė</cp:lastModifiedBy>
  <dcterms:modified xsi:type="dcterms:W3CDTF">2015-12-30T14:42:32Z</dcterms:modified>
  <cp:revision>51</cp:revision>
  <dc:subject/>
  <dc:title>Žiniasklaida ir socialinės medijos</dc:title>
</cp:coreProperties>
</file>