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32F7A-D35B-427A-AC31-BEDFA729AD42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854C1-CFFB-4401-9D9B-FEC07E0B8D9F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9AD-3F21-4A02-A590-5D1A6304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FD4-B1E8-4CD2-9F65-BE1924F1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F14-77B0-40C4-B784-B0C272DA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BBD-7A1A-44A0-8964-A7EFB083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DAC-9F53-4332-BB05-58950FAB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F52-0DF2-45AE-880A-586ABBA1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E99-4441-48DE-8204-239E7B91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30B-5AAE-41E5-BBBE-3C15D99E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BAC-9955-44F9-AE45-1AD93FFD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BC2-DD91-4AB5-8A77-DEE37770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775-D994-47BE-8573-1DE227D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993-77C9-4204-997F-C50D5F81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4F72A-3167-43C2-9946-924F4C255FB5}" type="datetime">
              <a:rPr b="0" lang="lt-LT" sz="1200" spc="-1" strike="noStrike">
                <a:solidFill>
                  <a:srgbClr val="898989"/>
                </a:solidFill>
                <a:latin typeface="Calibri"/>
              </a:rPr>
              <a:t>2026 metų liepos mėnesio 30 diena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7D97A-81FE-4563-B218-18BE67B297E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Žiniasklaidos įtaka visuomenės formavimu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898989"/>
                </a:solidFill>
                <a:latin typeface="Calibri"/>
              </a:rPr>
              <a:t>Kas lemia mūsų požiūrį į visuomenės proble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Iš kur gauname informacij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Laikrašč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Naujienų port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ensinio amžiaus kaimynė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ėv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Facebook“ ir t. 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55F3E-2E6B-44E6-B932-7B967B765377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Kodėl žurnalistai kelia pasitikėjim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prastai žmogus būna vienos ar kelių sričių ekspertas, bet ne vis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s irgi nėra vienos  srities ekspertas, bet jis po truputį išmano daugybę sriči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i kasdien kalbasi su įvairių sričių ekspertais ir pateikia jų nuomon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ai kurie žurnalistai taip pat yra puikūs srities, apie kurią daug rašo, eksperta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10948-4ED7-4918-957D-AA9505E02DB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s yra mūsų akys į pasaulį, nes žiniasklaidos kuriamą pasaulį suprantame taip, kaip jis jį mums pateik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Juokaujama, kad tai, ką žurnalistas pateikia kaip problemą, visuomenėje ir tampa probl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21003-C350-446A-9ABD-5A059852086C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Kodėl tai gera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urime daug akių ir aus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Sutaupome galybę lai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Ne kiekvienas turime tokių kompetencijų, kad sužinotume svarbią informacij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iniasklaida iškelia problemas, kurių šiaip nepastebėtumė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1973F-B4E6-47C1-A042-FF65A7D3D25E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Kodėl tai bloga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Skaitytoju galima manipuliuo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o klaidų aukomis tampa skaitytoj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artais perskaitę naujieną turime klausimų, kurių negalime pasitiksli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s nesąmoningai savo publikacija paskatina problemą suvokti viena ar kita link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218E5-B87A-4B34-9C26-097C767A741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ublikacija yra ne tik situacijos atspindys ar problemos analizė, bet ir žurnalisto vertybių, požiūrių bei pasirinkimų rezulta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71E27-92A0-4B1D-A829-EAF6F344BE9E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Žiniasklaida ir bendruomenė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iniasklaida ne tik formuoja visuomenės nuomonę ir darbotvarkę, bet ir jungia individus į bendruome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al kalb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al lai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al idėj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A0684-9964-47FB-ADAA-4F5660590442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7:56:35Z</dcterms:created>
  <dc:creator>Egidijus Jurgelionis</dc:creator>
  <dc:description/>
  <dc:language>en-US</dc:language>
  <cp:lastModifiedBy>Gražina Jurgutavičiūtė</cp:lastModifiedBy>
  <dcterms:modified xsi:type="dcterms:W3CDTF">2015-12-28T14:32:03Z</dcterms:modified>
  <cp:revision>30</cp:revision>
  <dc:subject/>
  <dc:title>Žiniasklaidos įtaka visuomenės formavimuisi </dc:title>
</cp:coreProperties>
</file>