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616C6-EEF3-44E7-A415-AA498644760D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94DEF-606F-499D-A593-78B782D14C6B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8B14F-CCEF-4C65-BA59-4039F6DBAE4E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BA6-4235-462B-B0B6-6FF6E295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083-D814-42F7-A492-C25D9B94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7F3BD-938F-495D-B85E-B300478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F4D9D-5F69-4CC9-9090-F872BAC1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66B8-A07B-4D97-BE18-235FD19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1F42D-DF39-4987-B20B-4C71B93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010DD-303D-44E5-AD4F-7EBB740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03106-6D44-4735-BBC9-A456AD1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EF009-8768-4ECC-8F36-C06B6592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8EEDA-CF74-433D-BAC2-715E1C77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1AB2E-7767-4BE6-8831-EEB232D2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0B5-FD1F-4679-B7B9-00A285CD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183-C921-40A4-B9B2-65720C64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181-DBF4-4FE4-82A1-49484AC8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21A-1AE7-4AEC-AB1C-7A6512D3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88EB-DBE0-4EF2-B57D-573F11C7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E47-6113-40D8-AF6D-008FC430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BAD0-CC58-44BF-A9D0-682944A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008-CC39-4EA5-9EBE-5C544439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F1AA-85BD-42D2-BEBF-53835B70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688-A9EB-4741-A97E-2290472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4060-94DC-4CBF-AA7D-12248A0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09AF-4A70-4D25-9704-7DEF987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C52-C8C3-4758-BCB7-915E9962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C38-9D4A-42A2-91A4-42780CAD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F67-415F-4DD0-A82F-B559B82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6226-6B7B-40C5-8AA6-7F841382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2C0F-8DAE-4177-B82F-32782B5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ABAB-6FFA-4CDD-8178-EF2835B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5BA5-464D-4C64-9E92-25F6464B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D29D-1A0E-4756-AACD-51864D27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4F0-2D08-4924-9E05-D0C9C1CE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7791-CC76-4895-B746-EF656B5F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4D40-20EA-44DF-A599-C2A124B7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6995-1343-4773-B42E-013772D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24A1-FD68-4A3F-8910-1ACFDF6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4698-FF60-4188-87E0-596939A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B4BB-3571-48DA-A656-EE8B72E8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C7CC-E3C9-43B2-B986-277B3785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4160-A920-4195-B692-94C5E69A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7B6C-7917-4167-AB81-BF6C68B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3EFC-0900-4B0E-B7B0-4988233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3BE-0907-4B75-9290-16D9E07A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5EA5-6247-46DA-B36B-E5C1E076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0058-8C2A-48E6-87C3-9C3EBF1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3669-944A-40B9-87E2-C9A8FFE5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6117-51D3-49CE-99A3-3FE2E74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9DB4-8C1D-460C-B73F-408B595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2DC0-871F-4D45-B125-66FA75B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3685-E8F0-40C8-B9E2-F2850DB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EF8E4-0E80-4265-B3E4-20A6D300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7ADC-C8E0-4F37-BF0A-262E6B8D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3962-21CF-45B9-82A9-2F05BB94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83D-1D60-4028-8FE3-0FAE8FC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D8FEC-5A15-4B2A-8045-2CAFB848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4A0E0-53CE-4561-A25A-CAE3B63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C0A3-864F-48E8-B0EF-31CC087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57B4-F652-470D-9D1F-8D7FCC0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1455-9195-42EA-AAAF-BDFEA119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B523-9C7A-4B3C-854B-AEE7A0B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C19A-B836-4C15-A253-B63BB3B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3A5C-04EA-4A6A-8627-529B23E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4367B-96DD-41EB-9277-0722E21B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B8184-5457-477D-8A87-FBB19313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C46-CBB0-4DDD-B381-34C54E6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28B6-0513-4EFE-8FD9-14308C0A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CA9E-CFAF-490A-A433-F8CCB271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CA06-5007-47D6-8B18-F5442DA5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37E2-34A5-4FA2-846E-94CBA9C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92AA-B02D-4EF8-B5A7-234A0B9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9BC1-9934-4B1C-A30B-109F517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2219-402A-4931-86FC-1B069CF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BFE70-1B3E-48FF-8DA7-BC74CCB2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5630-A72E-40BB-916D-EF7606F2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1E90-E522-455E-AD37-6EBB52A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FD9-ACDC-4956-B8E2-0130F05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4FFC-012B-4458-850F-5A035FBB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867E-E4FE-4365-A463-F1C2FAD2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270E4-EA42-4A66-91C3-572E0AAD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E3D7-71BB-4224-BEFE-74994822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B4A4-D012-4424-A1CE-01CE1F1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404A-33CF-43E7-B93E-DB9A2708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E5E0-7B69-460F-B628-A445FE7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C231-F8EE-4768-8BD9-6E95C4F8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EC565-45DE-4FCA-9B86-3A87F29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F76F-7353-42F2-B19A-1CA137B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5FE-A0EE-46CC-8A53-4157B51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658D-8AFC-4A66-9367-F7F0C7B8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21E63-DD92-4EE9-B7E6-558670D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888F-29F5-476D-B2F9-6CBD70E4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7884-DD3A-4334-8C17-BB451AAC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6B10-45FE-414E-9D7E-169903E8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7B6E0-E848-43F5-BC35-373D33D8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0156-6B85-4574-9ECB-006B2ABA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7718D-C812-4232-A33F-4B60B1A0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02F98-1442-4F45-9AB2-EC4850C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BE4F3-F11B-454D-9599-EC03F6FB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857-ACBF-49B6-98F2-66F91EC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408C-FE34-4308-8D91-B716A4C8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EBA7-F3CD-4F35-88F0-F77A9E6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14AD-8B11-4124-B91F-32557F6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10181-87A1-46E5-AE1F-9F6CD86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0470-F8A1-4380-935F-90566B5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185E-118B-4A1D-B8DB-55161AAE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44B7F-90B2-4817-9B23-2CFF5081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2304D-759E-41B1-BFF1-93A0E7B9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69A70-29F5-4A34-B0F2-07FD54F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D80F0-6682-43D4-9F64-D529AE50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8649F-B531-45ED-9F00-4D31A0E4D844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0C1AB-053A-4F9B-9168-56D28F4FAC8A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FE770-9F3A-4DC8-87F6-8E8CC8BC3168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DF032-47E4-441F-A091-A9F0162100BC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AF656-25CD-42E0-B3C7-18568F04DAD2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1566D-7503-4A72-B236-DC0BCAD3A752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52DED-4E1F-4075-B51D-858F39A6DAC6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F56DA-B1E3-44B3-AFC2-EB98E650F038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7025B-B3C0-4F8B-8FE5-D4098BA6FC0E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5A1D1-6F28-4CA5-AF05-A551185C7A7A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B5D57-A412-403A-B7D2-5E095F6F2496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CB295-9337-4F1F-848D-55582E5E1642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CD53A-15AD-4646-90CF-877EE5FA9A41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8689A-97CF-44C5-8140-882CC39D1DE8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E3772-F81A-423D-A9A8-F5C85B540814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D9514-52C9-42D9-B98C-182841BBECD9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09766-BBF9-49E6-8AF8-80068CEEBD4C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66493-A137-4CAD-A905-5E887422D51F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384120" y="1328760"/>
            <a:ext cx="8454960" cy="1335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7f7f7f"/>
                </a:solidFill>
                <a:latin typeface="Franklin Gothic Book"/>
                <a:ea typeface="ＭＳ Ｐゴシック"/>
              </a:rPr>
              <a:t>Ar žurnalistas, pateikdamas tikrą informaciją, perteikia tikrovę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Skaitytojas pats renkasi, kokias naujienas skaityti, ir pagal tai gali susidaryti aiškesnį tikrovės įspūdį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avyzdžiui, skaitydamas kuo daugiau naujienų, pasisakymų ir vertinimų apie vieną įvykį ar tendenciją skaitytojas susidarys tikslesnį vaizdą nei tuo domėdamasis fragmentišk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D209C-5D41-4E38-9567-152D8ECD7B06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1680" y="1947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iniasklaida yra darinys, padedantis susidaryti įspūdį apie tikrovę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Sakoma, kad kuo profesionalesnė žiniasklaidos priemonė, tuo tikslesnį tikrovės konstruktą ji pateiki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3D801-EC56-4043-A916-48CA245220E9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168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Pasiskirstykite į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keturias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 „namų“ grupes išsiskaičiavę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pirmais-ketvirtais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Kiekviena „namų grupė“ gauna po dalį medžiagos apie skirtingus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tikrovės perteikimo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 trukdžius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(žr.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1 veiklos lapą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Padirbėję „namų“ grupėje persigrupuokite į „ekspertų“ grup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Išsamiai išnagrinėkite visus veiklos lape pateiktus veiksnius aiškindamiesi, kas ir kaip  trukdo žurnalistui objektyviai perteikti tikrovę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3B01D-FE1E-4155-A6FE-0B1E2C433703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560" y="1554120"/>
            <a:ext cx="8839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asiskirstykite poromis: A-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skaitytojas ir B-dienrašči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žurnalistas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Siūloma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pasirinkti naujieną, pateiktą naujienlaiškyje „Aktualijos! O ką manai Tu?“ (http://duomenys.ugdome.lt/?/veikla/aktualijos/med=15/240)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skaitytojas 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sidali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 mintimis, kokių faktų ar aplinkybių galėjo nepateikti žurnalistas, manydamas, kad jos nesvarbios įvykiui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B žurnalistas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atsako A skaitytojui paaiškindamas, su kokiais trukdžiais susidūrė rašydamas apie tikrą įvykį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o to apsikeiskite vaidmenimis: A mokinys tampa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žurnalistu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, o B mokinys – naujienos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 skaitytoju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7B8F9-9BB2-422E-9D27-7286A099B3CB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920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34136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Įsivaizduokite, kad už lango įvyko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eismo įvykis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. Tačiau Jūs tuo metu klausėtės mokytojo, žiūrėjote į lentą ir nematėte, kaip įvyko avarija. Kokias įvykio aplinkybes norėtumėte sužinoti? Ko klausinėtumėte liudininkų, kad galėtumėte aprašyti įvykį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Tai gali būti namų užduotis – parašyti naujieną apie tikrą, neseniai įvykusį 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eismo įvykį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rtimoje aplinkoj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Aptarkite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, ko išmok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te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per dvi pamokas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Žiniasklaida ir tikrovė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bei kaip sekėsi atlikti įdėmaus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skaitytojo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ir atsakingo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žurnalisto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vaidmenis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C4991-A2C1-4684-9ADE-3983DBF2BADE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301680" y="1554120"/>
          <a:ext cx="8690040" cy="3078360"/>
        </p:xfrm>
        <a:graphic>
          <a:graphicData uri="http://schemas.openxmlformats.org/drawingml/2006/table">
            <a:tbl>
              <a:tblPr/>
              <a:tblGrid>
                <a:gridCol w="4487760"/>
                <a:gridCol w="4202280"/>
              </a:tblGrid>
              <a:tr h="100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as būdinga  žiniasklaidai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as būdinga tikrove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vyzdžiai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vyzdžiai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10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FA832-D666-4F10-A46B-C04F64F44A89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301680" y="4797360"/>
            <a:ext cx="923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Kaip žiniasklaida ir tikrovė susijusi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Ar žurnalistas, pateikdamas informaciją kaip naujieną, perteikia tikrov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030200" y="1700280"/>
            <a:ext cx="4961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Naujiena yra kaip paveikslas. Paveikslas nėra tikrovė, jis tėra tikrovės konstruktas, kurį nutapė dailininkas. Naujiena taip pat nėra tikrovė – tai žurnalisto pateikiamas tikrovės konstrukta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F7E64-E458-424B-AEB7-8A0CCCF28533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144360" y="17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5"/>
          <p:cNvSpPr/>
          <p:nvPr/>
        </p:nvSpPr>
        <p:spPr>
          <a:xfrm>
            <a:off x="304920" y="5877000"/>
            <a:ext cx="75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strukta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tyse sukurtas dalyk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"/>
          <p:cNvSpPr/>
          <p:nvPr/>
        </p:nvSpPr>
        <p:spPr>
          <a:xfrm>
            <a:off x="547560" y="4978440"/>
            <a:ext cx="34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. Van Gogas, „Batai“, 1886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Šaltinis: Wikimedia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-79200" y="262080"/>
            <a:ext cx="96930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trenka tam tikrai auditorijai svarbiausius įvyki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nka apie juos informaciją: kalba su žmonėmis, skaito dokumentus ir p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trenka, jo nuomone, svarbiausius faktus, pasisakymus, vertinim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agal žiniasklaidos priemonės pobūdį parenka nuotraukų, vaizdo įraš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1D5B7-8244-4739-91CE-7D0B5421BF6E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60640"/>
            <a:ext cx="868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smeninės nuostato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Įstatymai ir etikos kodeks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iniasklaidos priemonės vidaus politika, priklausymas verslo struktūroms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63818-095F-4C11-AD3B-92DD5C402110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349000"/>
            <a:ext cx="868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Geografiniai trukdžiai – atstumai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Laiko apribojim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BF734-4E60-4D51-AE4E-75B35F5B3FA1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77300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Fotoaparatas arba vaizdo filmavimo kamera tik įrėmina tikrovę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okalbio garso įrašas neperteikia visko, kas vyksta interviu me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Vaizdo ir garso montažas gali kardinaliai pakeisti tikrovę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Tiesioginis eteris taip pat negali perteikti tikrovė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65C85-6C86-4E4E-9A09-79ABBBC6442B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Naujieną rengia žurnalistas, tačiau prieš publikuojant ją peržiūri ir redaktori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nėra buvęs įvykio vietoj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gali išbraukti faktus, pasisakymus ir vertinimus, kurie jam atrodo nesvarbū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gali ištrinti teksto pabaig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CD2C6-A7F5-40FF-B788-48B4EF2E90BD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341000"/>
            <a:ext cx="86868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Būdamas pačioje įvykio vietoje žmogus nemato visos tikrovės: jis nežino visų reikšmingų faktų ir aplinkybi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mogus koncentruoja žvilgsnį į vieną situaciją, o tuo metu už jo akiračio gali formuotis kita situacija ir dar svarbesnės jos aplinkybė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Kartais televizija geriau išryškina aplinkybes, nei mato įvykio vietoje esantis stebėtoj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29DA1-254B-4860-B901-F061BC2A67CD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0:17:08Z</dcterms:created>
  <dc:creator>Egidijus Jurgelionis</dc:creator>
  <dc:description/>
  <dc:language>en-US</dc:language>
  <cp:lastModifiedBy>R</cp:lastModifiedBy>
  <dcterms:modified xsi:type="dcterms:W3CDTF">2016-01-06T19:24:39Z</dcterms:modified>
  <cp:revision>66</cp:revision>
  <dc:subject/>
  <dc:title>Žiniasklaida ir tikrovė</dc:title>
</cp:coreProperties>
</file>