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EBA-10F2-4A31-9F49-C14ECDDE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661-705B-4F2A-BEB4-77F65556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EBD-1E36-4152-9DB8-E10AB848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773-147F-4BC3-B996-FBDBE2DF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774B-32A4-49BC-B54E-9C9AD1AE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A958-ED74-4D93-9649-AEA3459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806F-EC36-431D-9D29-D4C01FAF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3DC8-9860-4452-812C-001DE5CC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72D9-801B-4C75-AC1E-707D8184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A57B-D574-4F11-8C5D-ACF83131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0CB8-7217-4988-83B9-D457147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BBD-461A-4DA2-B592-D14AFB0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DEF-9996-478A-A031-B04E999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FD9-16C6-4838-9E08-BC4B62A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DCA-F481-4492-806E-E82AFE3F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678E-19B1-4DEB-96A6-C7BFFF6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C2D8-30AB-4D5F-8A6F-957A9D68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9AA1-3CD9-4AB8-B743-9DD25804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4A04-3015-412E-9C99-9F7CB7A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2EBD-71C6-419B-8016-466BA9E4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66C9-3EDF-4ECD-A741-049943E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A499-7448-48A3-922E-E18B1B3E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62D-1FC0-4F98-8B8E-7A8F649B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4DA8-8C74-4387-9E9C-5045A9B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79CC-6F63-4048-B982-64DD507F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7033-D5F5-44D7-BDEF-C879E33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82BE-3DFE-4284-B053-E860B8E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08DA-F38C-4AA0-AB11-9A53F7BF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0C38-7603-4F83-8E6C-E3356128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40D8-15C1-4ED5-8A5C-03BEC5D3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0ABB-42CB-4612-9099-53AB55D9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0CED-BAD0-4F3F-A886-F438C844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D2D4-D74F-4050-8522-82475CCB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499-5B96-469A-AC76-30052E68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026F-D748-4FC6-AA67-94776F89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BB06-91E0-4612-AA16-B8BC699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96CF-AC47-46AF-AED1-A769F582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41DC-F384-49A0-9F81-0E640C85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66E8-2865-4C77-977F-A5FD3282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1A24-DBE5-48BB-A6A0-A785F459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2FF3-E709-45BE-9185-11EB7F9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B7E7-0F3C-45C7-AD1F-70D4C1EA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987E-1E69-44BB-B6D2-5B5F72E1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752D-3D29-4155-84DE-B2148C32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4A3-5714-4AC6-A892-413F01D3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F0A9-42F0-484C-A09C-00D5C1E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9B23-FF8A-43E1-8CBA-C5557D59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BA0B-8C78-4B0A-9A8B-DECC07A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FA14-59FD-45E3-9676-BA82B8C5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4AAFC-D524-4D8A-8075-F534A75F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A00F-D003-407C-969E-4232967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DE87-8574-48C3-BA09-5A088C54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84DC-BC22-424F-B8B1-12A91ACC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BC3A-0503-45B9-8BCE-71840DD6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211D-0547-45A1-9CFC-8CFADC5E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817-F98B-47FB-9F66-CC5F005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1D36F-ACD9-4B3D-9058-05294B34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D082-D690-4FEF-B68A-F77132D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5A9E-E0C6-48E8-8690-9F5BAF0E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9DC2B-C784-4144-97F5-12D26BE9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0B179-65A7-4E85-84B8-3455129B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3AEC-A3FA-421D-A173-3E7BC3B0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78AC4-2E7D-4B69-9BDD-69BC51BB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7F21F-8A85-462B-A490-1322BC8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6515-EC39-4898-8622-5970F300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9A422-C786-4462-9BA0-C87FB61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992-AAC6-4DB0-8BD9-940715F9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FFC29-BF8A-408D-8666-79FA47B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3B10C-DB62-4FCE-A080-95ADBBCA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99AAA-95B1-40B7-9F1C-2051CA09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5E86A-7D39-4BBA-8A2F-C59BEE78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5DDDF-F797-4A6F-A46E-46319E19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D439-3C68-4025-81C3-F7A7CDB2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4B43C-8E2D-4BE5-9389-FA1CCE1F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8F749-FA00-4502-A410-6B09CA73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2D4F4-8E36-4A18-ADC3-903A1118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99F7-5BE6-4167-A005-21725482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A1B-8319-4EB1-A30B-C19181F6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9B3E-754D-40A7-9AAB-DC7A61D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C8067-3CA3-47F1-AF8C-1B096D4D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ECD1-AF48-4548-B14A-57B2F24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83DE-3363-431E-B195-D114AE34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73BF-D3BB-47BC-9FDA-965B5349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C78-4CFF-4826-BDCC-C0777E2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FA045-FE79-4F9E-9B9F-28EFB005CADB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6970E-0624-4763-9F69-03851970F4F0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EF7FE-1A7F-47B6-8EDC-0BCC2AD201FE}" type="datetime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8AA3A-FEEA-4D65-84E1-950F7C8A078D}" type="slidenum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B6FA3-3443-498B-964D-5BB4641295D7}" type="datetime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96A91-815A-4240-8D5F-C38B64D5D689}" type="slidenum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AA3AD-206D-4ADD-AF6C-86A2D28F1822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E0CCC-8EE3-431D-8873-F13D71BD1C62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CF2D3-CC72-458F-96A0-7D8D65DB51AC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7BFF6-4488-4624-9CF9-6BF7DEB3ED32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A1F3F-624E-4AA7-89F0-01091E5AB2AE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FC92D-4FAB-465C-96A7-2DFC15C9DD5B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13D8A-E687-42E7-A6C8-D1D7CD63C6F1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E73EE-B733-4D06-9101-5F21C1403E89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2279520"/>
            <a:ext cx="80769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ino montažo technikos virtuoz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Tarptautinio pripažinimo sulaukė sukurtas fil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Šarvuotis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„Potiomkinas“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1925)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Tai -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1905–1907 metų darbininkų, valstiečių ir karių revoliucijo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ranizacija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ieš caro valdži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asinė Odesos laiptų scena iki šiol laikoma viena įspūdingiausių kino istorijoje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6868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4358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e veikėjai vaidina šioje sceno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vaizduoja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aukos – agresoriau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nfliktas? Kurią pusę palaikytumėte Jū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filmo ištraukoje panaudojama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metonimija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risiminkite vėlesnį istorinį laikotarpį –  bolševikų revoliuciją, Sovietų Sąjungos ideologiją: kodėl šį filmą teigiamai priėmė Sovietų Sąjungos valdži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ena iš Trečiojo Reicho veikėjų ir artimos Adolfo Hitlerio aplinkos žmoni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Garsiausiu jos kūriniu laikomas fil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Valios triumfa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(1935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dolfas Hitleris buvo ne tik filmo rėmėjas, bet ir neoficialus vykdomasis prodiuseri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as iki šių dienų laikomas vienu įspūdingiausių propagandinių film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6840" y="1774800"/>
            <a:ext cx="84358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s žiūrovui atskleidžiama šio filmo vaizdiniai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s Reicho kariuomenės ypatybes norima perteikti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o tikslo siekiama šiuo filmu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i auditorijai skiriamas šis kin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507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žiūrėkite V. Žalakevičiaus filmo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Niekas nenorėjo mirti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(1965) ištrauką: 34:00-43:58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galvokite, kodėl šio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filmo cenzoriai Lietuvoje nepraleido kaip „ideologiškai neteisingo“, tačiau cenzoriai Maskvoje ne tik leido jį rodyti, bet ir skyrė autoriui apdovanojimų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r šis filmas, jūsų nuomone, palaiko sovietinę ideologiją? Kodė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542880" y="695160"/>
            <a:ext cx="845496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sa klasė aptarki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r menui reikalinga ideologinė funkcija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Kodėl kinas suvokiamas kaip geriausias kanalas ideologijai skleisti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ekvienai grupei p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kiriama (arba duodama ištraukti ant lapelių parašytą) po vieną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žodį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dėją, pvz.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jėga, tauta, pareiga, vienybė, laimė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ir pan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rupės sugalvoja bent po tris vaizdinius, kuriais atskleistų savo idėj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ir juos pristato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t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ų grupių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mokiniai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uri atspėti tą įsivaizduojamą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žodį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Corbel"/>
              </a:rPr>
              <a:t> – idėj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4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audodamiesi fotoaparatu ar mobiliuoju telefonu nufilmuo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kite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trumpą v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izdo filmuk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, kuris atspindėtų j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ūsų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grupei p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skirtą (ištraukt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me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lapelyje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parašyt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žodį</a:t>
            </a:r>
            <a:r>
              <a:rPr b="0" i="1" lang="lt-LT" sz="3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–</a:t>
            </a:r>
            <a:r>
              <a:rPr b="0" i="1" lang="lt-LT" sz="3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idėj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Grupės nariai susitaria, koks vaizdas būtų įdomiausias, kuris atskleistų tą idėją ir pademosntruoja su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kurtą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filmuką kitiems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Visi kiti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taip pat bando atspėti tą įsivaizduojamą žodį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– simbolį.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Apibendrinama, kokia vaizdinių simbolinė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idėjinė prasmė ir emocinis poveikis auditorijai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457200" y="1774800"/>
          <a:ext cx="8229600" cy="4359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no meno pavyzdž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deologijos pavyzdž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736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švada: </a:t>
                      </a:r>
                      <a:r>
                        <a:rPr b="0" i="1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nas ir ideologija susiję / iš dalies susiję / nesusiję, nes...</a:t>
                      </a:r>
                      <a:r>
                        <a:rPr b="0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6" name="Rectangle 1"/>
          <p:cNvSpPr/>
          <p:nvPr/>
        </p:nvSpPr>
        <p:spPr>
          <a:xfrm>
            <a:off x="2274120" y="9036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švada: </a:t>
            </a:r>
            <a:r>
              <a:rPr b="0" i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inas ir ideologija susiję/ iš dalies susiję/ nesusiję, nes..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2274120" y="9036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švada: </a:t>
            </a:r>
            <a:r>
              <a:rPr b="0" i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inas ir ideologija susiję/ iš dalies susiję/ nesusiję, nes..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rbel"/>
              </a:rPr>
              <a:t>Tai klasių, socialinių grupių pažiūrų, idėjų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rbel"/>
              </a:rPr>
              <a:t>Atspindys visuomenės santykių, jų socialinių principų pagrindimo teorija, skleidžiama įvairiomis visuomeninės sąmonės formomis (filosofija, politika, teise, menu, religija, žiniasklaida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munikacija istorijoje ilgą laiką buvo suvokiama kaip potencijos sukurti ar sugriauti politinę santvarką turinti gali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John Durham Peters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grindinis manipuliavimo visuomenės vertybių sistema tikslas yra paveikti individų motyvaciją ir priversti imtis atitinkamų veiksmų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(Denis McQuail)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inas – tai m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siškiausias men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Dėl v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zualum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: „Geriau vieną kartą pamatyti nei šimtą kartų išgirsti“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ėl paveikumo (estetinio, emocinio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nkreti žmonių grupė: pakeisti jų požiūrį į reiškinius, vertybes, idėj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si šalies gyventojai: mobilizuoti, sukurti pasitikėjimą šalimi, geopolitine padėtimi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riešiškos grupės / valstybės: parodyti galią, įbauginti, sumenkinti kitų pasitikėjim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4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inas ideologiniais, propagandiniais tikslais gali būti naudojamas ne tik totalitarinių režimų, bet ir demokratinėse visuomenėse siekiant keisti visuomenės požiūrį, skiepyti naujas vertyb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*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Ar jums yra buvę taip, kad filmas pakeistų jūsų nusistatymą kieno nors atžvilgi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enas iš holivudinio kino kūrėjų, Jungtinių Amerikos Valstijų socialinis ideolog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Garsiausias kūriny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Nacijos gimima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(1915)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– pirmasis kino istorijoje propagandinis film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as buvo naudojamas verbuojant naujus kukluksklano* nari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e juodaodžius vaidino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perdažyti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baltaodžiai aktoriai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57200" y="6126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alibri"/>
              </a:rPr>
              <a:t>*Kukluksklanas – JAV organizacija, pasisakanti už baltųjų rasės viršenybę prieš kitas rases. JAV ši organizacija dažniausiai siejama su judėjimais prieš juodaodžių ras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os vertybės perteikiamos šioje sceno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kuriamas juodaodžio personažo portret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is kinematografiniais būdais bandoma įtikinti žiūrovą propaguojama ideologij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manote, ar šis filmas paveikus šiandie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6:58:57Z</dcterms:created>
  <dc:creator>Egidijus Jurgelionis</dc:creator>
  <dc:description/>
  <dc:language>en-US</dc:language>
  <cp:lastModifiedBy>R</cp:lastModifiedBy>
  <dcterms:modified xsi:type="dcterms:W3CDTF">2016-01-06T19:40:21Z</dcterms:modified>
  <cp:revision>104</cp:revision>
  <dc:subject/>
  <dc:title>Kinas ir ideologija</dc:title>
</cp:coreProperties>
</file>